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288588" cy="6858000"/>
  <p:notesSz cx="68834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8B3-D711-497A-A719-6AE139E5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641-2566-4A54-BD91-C46D376E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192-9F4C-4DA9-B591-C34252BD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81D-8E12-4454-8400-B43B3CE6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6E8B-3DD4-4B67-A8B8-5DCB732A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D4F-9345-47F1-B337-637082FD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CBB3-91C4-434C-BC9B-3498C939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399F-3C73-4F9C-AB88-311A3233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110D-FD37-47F6-9519-8EB8B21B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A06D-AF8C-4154-ADFC-7174A2B1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418-0185-4B81-B752-549231B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60A-73A0-4436-A2A3-563AFCFC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224A-40F4-4CF9-9D9C-0571BB9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4582-69CE-46D5-9BAE-EB69BDF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DADC-0154-41B9-AB63-AF9D9F7A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EFC3-42CB-4C91-9602-EDC1AC82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EAEE-510C-4DE6-95BB-72CE9180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9DB-2A1C-4F1D-8F58-50B380A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D60-A063-4752-BC4D-9167F46C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442-91FD-4A7A-B3E9-4A398062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0E8-EB59-46ED-B318-35D8F8DD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810-15D1-4827-803A-1EFD1D1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7C4-9666-46EF-BFB1-8BA528B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F1B-AF04-431E-91C7-74E520E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EEB-0350-49FA-A858-0E6B49A7CA5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DE17-5DE1-4AF7-B28C-24AA5C8400C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candelal@unmsm.edu.p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0040" y="1268280"/>
            <a:ext cx="87436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s-PE" sz="2800" spc="-1" strike="noStrike">
                <a:solidFill>
                  <a:srgbClr val="0000ff"/>
                </a:solidFill>
                <a:latin typeface="Arial"/>
              </a:rPr>
              <a:t>UNIVERSIDAD RICARDO PALMA</a:t>
            </a:r>
            <a:br>
              <a:rPr sz="1600"/>
            </a:br>
            <a:r>
              <a:rPr b="1" lang="es-PE" sz="1600" spc="-1" strike="noStrike">
                <a:solidFill>
                  <a:srgbClr val="0000ff"/>
                </a:solidFill>
                <a:latin typeface="Arial"/>
              </a:rPr>
              <a:t>         ESCUELA DE EDUCACIÓN</a:t>
            </a:r>
            <a:r>
              <a:rPr b="0" lang="es-PE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43040" y="2071800"/>
            <a:ext cx="78580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PROGRAMA DE COMPLEMENTACIÓN PEDAG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DIDÁCTICA DE LA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243400" y="4653000"/>
            <a:ext cx="41767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ff"/>
                </a:solidFill>
                <a:latin typeface="Arial"/>
              </a:rPr>
              <a:t>Prof. Hugo Candela Lina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Maestría en Docencia Universita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s-PE" sz="1400" spc="-1" strike="noStrike">
                <a:solidFill>
                  <a:srgbClr val="0000ff"/>
                </a:solidFill>
                <a:latin typeface="Arial"/>
              </a:rPr>
              <a:t>Primer Puest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273320" y="5373720"/>
            <a:ext cx="41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ff"/>
                </a:solidFill>
                <a:latin typeface="Arial"/>
              </a:rPr>
              <a:t>E-mail: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candelal@unmsm.edu.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333399"/>
                </a:solidFill>
                <a:latin typeface="Arial"/>
              </a:rPr>
              <a:t>comeniohcl@hotmail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ttp://t1.gstatic.com/images?q=tbn:cy6xdL-A1rGqaM%3Ahttp://www.creditosperu.com.pe/admin/logos/redimensionar.php%3Fimagen%3Durp.jpg"/>
          <p:cNvPicPr/>
          <p:nvPr/>
        </p:nvPicPr>
        <p:blipFill>
          <a:blip r:embed="rId2"/>
          <a:stretch/>
        </p:blipFill>
        <p:spPr>
          <a:xfrm>
            <a:off x="4714920" y="285840"/>
            <a:ext cx="9619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CINCO METAS O FINALIDAD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858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aprendizaje de conceptos y la construcción de model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desarrollo de destrezas cognitivas y de razonamiento científi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desarrollo de destrezas experimentales y de resolución de proble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El desarrollo de actitudes y valor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5960" indent="-615960" algn="just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La construcción de una imagen de la cienc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26680" y="692280"/>
            <a:ext cx="93963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ffff"/>
                </a:solidFill>
                <a:latin typeface="Arial"/>
              </a:rPr>
              <a:t>EDUCACIÓN CIENTÍFIC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48040" y="4089240"/>
            <a:ext cx="599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900" spc="-1" strike="noStrike">
                <a:solidFill>
                  <a:srgbClr val="3333cc"/>
                </a:solidFill>
                <a:latin typeface="Arial"/>
              </a:rPr>
              <a:t>                   </a:t>
            </a:r>
            <a:r>
              <a:rPr b="1" lang="es-PE" sz="1900" spc="-1" strike="noStrike">
                <a:solidFill>
                  <a:srgbClr val="ffffff"/>
                </a:solidFill>
                <a:latin typeface="Arial"/>
              </a:rPr>
              <a:t>Prof. HUGO CANDELA   LINAR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51040" y="5246640"/>
            <a:ext cx="6076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E-mail:   hcandelal@unmsm.edu.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PE" sz="2200" spc="-1" strike="noStrike">
                <a:solidFill>
                  <a:srgbClr val="ffffff"/>
                </a:solidFill>
                <a:latin typeface="Arial"/>
              </a:rPr>
              <a:t>comeniohcl@hotmail.c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dn-1"/>
          <p:cNvPicPr/>
          <p:nvPr/>
        </p:nvPicPr>
        <p:blipFill>
          <a:blip r:embed="rId1"/>
          <a:stretch/>
        </p:blipFill>
        <p:spPr>
          <a:xfrm>
            <a:off x="1093680" y="1341360"/>
            <a:ext cx="275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EDUCACIÓN CIENTÍF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1040" y="1866600"/>
            <a:ext cx="858672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500" spc="-1" strike="noStrike">
                <a:solidFill>
                  <a:srgbClr val="ffffff"/>
                </a:solidFill>
                <a:latin typeface="Arial"/>
              </a:rPr>
              <a:t>La esencia de la verdadera educación es la intemporalidad. Es algo que permanece a través de las condiciones cambiantes como una roca firmemente plantada en medio de un tumultuoso torrent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CRISIS DE LA EDUCACIÓN CIENTÍF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Hay una creciente sensación de frustración, al comprobar el limitado éxito en el esfuerzo doc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parentemente, los alumnos cada vez aprenden menos y se interesan menos por lo que apren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os alumnos encuentran dificultades conceptuales, también las tienen en el uso de estrategias de razonamiento y  de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No entienden lo que hacen; consiguientemente no logran explicar ni aplicar a nuevas situaciones, el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o aprendido se diluye ráp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 algn="just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prácticas escolares se centran en tareas rutinarias o cerradas, con escaso significado científ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Arial Black"/>
              </a:rPr>
              <a:t>ACTITUDES INADECUADAS CON RESPECTO AL TRABAJO CIENTÍF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9040" y="1599840"/>
            <a:ext cx="9083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doptan posiciones pas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speran respuestas en lugar de formular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Mucho menos hacerse ellos mismos las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Conciben los experimentos como “demostraciones” y no como investig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sumen que el trabajo intelectual es una actividad individual y no de cooperación y búsqueda conju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Consideran la ciencia como un conocimiento neutro, desligado de sus repercusiones so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 algn="just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sumen la superioridad del conocimiento científico con respecto a otras formas de saber culturalmente más “primitiv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CONSTRUCCIÓN DEL CONOCI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32040" y="1703520"/>
            <a:ext cx="85629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ELABORACIÓN DEL CONOCIMIENT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L APRENDIZAJE COMO PROCESO CONSTR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S NUEVAS DEMANDAS EDUCATIVAS EN LA SOCIEDAD DE LA INFORMACIÓN Y EL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500" spc="-1" strike="noStrike">
                <a:solidFill>
                  <a:srgbClr val="ffffff"/>
                </a:solidFill>
                <a:latin typeface="Arial Black"/>
              </a:rPr>
              <a:t>LA CONSTRUCCIÓN DEL CONOCIMI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5800" y="15588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A.-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ELABORACIÓN DEL CONOCIMIENTO CIENT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La ciencia es un proceso, que los alumnos perciban su provisionalidad y su naturaleza histórica y cul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Arial"/>
              </a:rPr>
              <a:t>Enseñar ciencias no debe tener como meta presentar a los alumnos los productos de la ciencia como saberes acabados, defini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988640"/>
            <a:ext cx="87724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764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B.-</a:t>
            </a:r>
            <a:r>
              <a:rPr b="1" lang="es-PE" sz="21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EL APRENDIZAJE COMO PROCESO CONSTRUC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6480" indent="-276480" algn="just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Aprender no es hacer fotocopias mentales del mundo. Ni enseñar es enviar un fax a la mente del alumno, para que éste emita una copia, el día del examen, para que el profesor la compare con la orig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6480" indent="-27648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100" spc="-1" strike="noStrike">
                <a:solidFill>
                  <a:srgbClr val="ffffff"/>
                </a:solidFill>
                <a:latin typeface="Arial"/>
              </a:rPr>
              <a:t>Existen diversas formas de interpretar los proces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61480" y="549000"/>
            <a:ext cx="8587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C.-</a:t>
            </a:r>
            <a:r>
              <a:rPr b="1" lang="es-PE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LAS NUEVAS DEMANDAS EDUCATIVAS EN LA   SOCIEDAD DE LA INFORMACIÓN Y 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Un sistema educativo, tiene como función formativa hacer que los futuros ciudadanos , asimilen la cultura en la que viven, también desarrollar capacidades necesarias para acceder a los productos cul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just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Se puede resumir la nueva cultura del aprendizaje caracterizándola en 3 rasgos esenci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- Estamos ante la sociedad de la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- Del conocimiento múlti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- Del aprendizaje contí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 algn="just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El currículo de ciencias es una de las vías a través de las cuales los alumnos deben aprender a aprender adquirir estrategias y capacidades que le permitan transformar, reelaborar y en suma, reconstruir los conocimientos que reci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6:40:44Z</dcterms:created>
  <dc:creator>Zraida</dc:creator>
  <dc:description/>
  <dc:language>en-US</dc:language>
  <cp:lastModifiedBy>CASA</cp:lastModifiedBy>
  <dcterms:modified xsi:type="dcterms:W3CDTF">2010-01-14T21:30:31Z</dcterms:modified>
  <cp:revision>21</cp:revision>
  <dc:subject/>
  <dc:title>Diapositiva 1</dc:title>
</cp:coreProperties>
</file>